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DE0-BF4E-4F22-8E50-21C4FD4C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08B-4CC2-45B8-8EBD-81CA3E5D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BF5-AC54-4184-ACCE-0DA45EC4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14F-0270-484D-A326-0180C6C5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F3D8-72C7-466E-81F1-0C7C183D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871C-75E8-453F-8EE3-42C57C5E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3C5E-2477-4AC6-97EE-E82A1E0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ABB5-BAFC-46CF-B56F-2D37B68D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8216-8773-4C56-BEA8-254EFEEA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427B-AB5A-4830-AA31-3137469A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CD84-3972-4E6C-9A4E-972188D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F1F-A8D4-450D-91C9-199CA0DE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8491-3FB5-4A5D-9FE1-60062169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8156-F02A-4471-B168-667FB010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6EF4-FE6B-493F-96CD-7BDAB12A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C6B-1397-4F84-BEAA-037671A1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AFE8-7D5A-4458-9081-113F7B44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5FD-A080-4165-BFB2-F14A8C34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199-DFA5-490E-B614-DBAAD00F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78B-EC7D-4271-8569-3D42F790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FF9-7A65-42C6-82DA-B1C4C515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7A2-1F55-49A3-8F0F-C83F230B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C3B-58BE-4807-9B16-08E55F9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8A5-4F12-4E62-8F4B-364640A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591C-6D94-445E-9736-BBA3A7B0485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0117-EB43-4430-8191-6B8211A6D9A3}" type="slidenum">
              <a:rPr b="0" lang="en-US" sz="1400" spc="-1" strike="noStrike">
                <a:solidFill>
                  <a:srgbClr val="336666"/>
                </a:solidFill>
                <a:latin typeface="Ribbon131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Perform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Storag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for representing letters or numbers using only two digits, 0 and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ferred to as Base 2 Binary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28960" y="213372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ory Measur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0 o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ilo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,0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ly 1,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g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m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ly 1,048,57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ig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b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r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tr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753000" cy="3417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rage Devi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4876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data when the power to the computer is turned of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/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where data is 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mounted inside the computer’s system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tore billions of characters of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in forms of by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gabytes or Gi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2760480" cy="299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gnetic Stor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ing of data onto disks or tape by magnetizing particles of an oxide based surface co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airly permanent type of storage that can be mod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05520" y="2633760"/>
            <a:ext cx="3429000" cy="265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608280" cy="3556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 piece of flexible Mylar plastic covered with a thin layer of magnetic oxide and sealed inside a protective cov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referred to as a “flopp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½ disk capacity is 1.44 MB or 1,440,000 b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ppy Disk 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t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the disk for use by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-prot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the disk so that it can not be written to by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Zip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disk technology manufactured by Iomeg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100 MB and 250 MB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91120" y="3581280"/>
            <a:ext cx="4267080" cy="252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gital Audio Tap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of storing large amounts of data on tape using helical scan technology to write data at high densities across the tape at an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cal Stor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s of recording data as light and dark spots on CD or DV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ing is done through a low-power laser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k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er, non-spotted surfac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uter Perform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086600" cy="47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 – Read Only Memor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alled CD-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age device that uses laser technology to read data that is permanently stored on compact disks, cannot be used to write data to a di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16200000">
            <a:off x="4587120" y="2118600"/>
            <a:ext cx="4572000" cy="307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D-R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24320" cy="2720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40384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-Read Writ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orage device that reads data from CD’s and also can write data to CD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CD-ROM, but has the ability to write to C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VD-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Video Disks – Read Only Mem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s data from CD’s (audio and data) and DVD’s (data or mov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used to write data to a di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657600" cy="296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 of events that occurs between the time you turn on a computer and the time that it becomes ready to accept comma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a diagnostic test to make sure everything is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 the operating system, so the computer can carry out basic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 events of the boot proces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boot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-on self-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peripheral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 opera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configuration and custom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th from one component of a computer to another that data uses to tra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run betw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the micro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various storag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licon Chi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icon is melted s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e circuits are embedded into to keep them toge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407040" cy="339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gahertz (mH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asurement used to describe the speed of the system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gahertz is equal to one million cycles (or pulses)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3 GHz means that the microprocessor’s clock operates at a speed of 1.3 BILLION cycles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114640"/>
            <a:ext cx="3429000" cy="369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of the CP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tium is the 5th generation of the Intel process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enerations wer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21360" y="609480"/>
            <a:ext cx="209700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M vs. 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 Mem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ility of a storage device to go directly to a specific storage location without having to search sequentially from a beginning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not hold data when the power is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ses all data when power is l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 mem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s can read data from disks, but cannot store new data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integrated circuits that contain permanent instructions that the computer uses during the boo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4:50:07Z</dcterms:created>
  <dc:creator>Michelle Guymon</dc:creator>
  <dc:description/>
  <dc:language>en-US</dc:language>
  <cp:lastModifiedBy>TMS</cp:lastModifiedBy>
  <dcterms:modified xsi:type="dcterms:W3CDTF">2004-11-03T19:15:20Z</dcterms:modified>
  <cp:revision>77</cp:revision>
  <dc:subject/>
  <dc:title>Computer Performance Storage Devices &amp; Size</dc:title>
</cp:coreProperties>
</file>